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B1A3-4EA9-4325-BEFB-8D9970FE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334-7429-4E2B-B449-BC920883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8D04-35A1-4859-8B99-B0277933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546-A326-4F0C-8F87-E32AC57BF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F6A-0A56-43B3-99AB-6339B860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CD48-03C2-4C60-8F4D-0C8B9C0D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3A5C-C03B-47A8-8295-39E45A6C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D58-BDB1-43AF-BE7D-D56A1EB3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Number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C1D5-DDCE-47DE-88ED-31C98A05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9395-8015-4286-B820-749766DB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F85-CF5E-4318-A6E8-3DC2209E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3C4F-90E6-4262-993A-9B86113AD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B805-38D2-489A-B389-F4FED726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2D1-2B40-4670-B489-ACCDCE30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4063-4F38-479A-A2B5-2FA2437E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343-4EDC-4FF6-BB80-CFE0EEC6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522-581C-4B51-A34D-86914897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6943-AA97-4329-888B-4E84CFF4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2030-1A9B-48DB-937C-A07E7DFA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72E-414D-4728-B9CE-6914F1B9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010C-3880-48C6-AC1C-6C1851D6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1C05-9ED9-4761-B8DD-5EB287EA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0B9-E539-4A44-9ABA-9C0DF4E0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7FB-5F1A-4A52-A79F-418FA066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AE2-42DB-45D9-A3E0-9F539AB4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45C1-ECB6-44E0-B217-DECD931FB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9A95-4399-4032-AE5A-F770C56E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C298-5CB6-4598-9D51-F918556D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4018-9450-4093-B721-844BD318F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96F8-F761-4876-9EE2-F01FF25057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A66AB-5260-423A-B0F2-779E46B563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E29B-3D6B-41C4-B7F8-96897AF808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38A8-CA11-4F9F-9368-C8332B3234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D367-0DF4-43E7-B2F8-B15672B28A5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D045-7C88-4636-B560-AF421F1E0D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4AE0-FD0E-4F5A-B410-A6E95C28810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DC67-B4CB-42A6-AF9E-EA4EF29EDE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5286-F944-42D2-B367-D678C020A1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D401-B918-4960-8398-18E1085026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0592C-83F2-4724-A9B0-5DD3BE910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88F5-FFEF-4490-B3D6-A5A16A096F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F7978-ECAE-45AB-A3AE-4C269B4E698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22059-99EC-4D43-866D-E9E550DD24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56137-6067-4418-B7BC-29A6BAAAF0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E35C8-471A-4341-A91C-A20A5E8057E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215FF-8659-497C-94D3-BB2F403AF56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DF49E-8A74-4ECE-AAA9-92DDB68A17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D81BA-8198-420D-9F19-A31928DE8C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23DE0-7CEA-4FB9-B199-53E637DEAD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E1086-BFC3-4B10-A256-4DA9D0D3306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BE649-AE64-4307-AABB-CE34294DE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ABD9-2495-4598-8043-417924E8F9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A3220-7235-4C94-A027-72258173B0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CBE77-A8E7-41F8-B586-D2184631F38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4A7BB-AC49-471D-A5E8-9567062E832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44963-33B3-47E6-BD3D-EEA7C29753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625FD1-E4E3-4AE3-8968-33DFEE311B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F7AF39-EA3C-4310-A498-318FB5B9CB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E7446-CFB2-48A5-B63D-C45DF0004C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A2320-D8D0-4E45-9E24-14DA4F0647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8EAED-8F96-41BC-9919-8BD5F9E65B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E8C278-2B6C-40D2-86EC-764659581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77-B675-4E6F-9470-53CC6CE932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9A6022-89C0-45A1-8D50-24CED61931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982322-BDDA-48CA-BA92-B538415A68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63487-BAEF-425E-9D94-6B3C31C6F3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FB58-EE5C-4287-B3EF-17256D61B62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67FDB-BCAD-498B-952D-B55E76EF356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4A854-BADE-4C4E-A37B-BE54AE8C8E2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BC71-018C-4E5D-AB0C-4EBE4694F0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F9A4E-036B-442B-815D-5FA2CF47D3F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8D628-1C7F-43B4-8E74-D7A60EEAD01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4B6C-4302-44CB-B687-9A06ED4A78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459-884D-4A7D-8BEA-5EADEF55E09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2AF9-6887-4CDF-A9C0-5FB0D4B33F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ADE1-5B36-46CD-A79F-E60FF159E7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3EE87-55DA-4726-BA96-4E79BEA97B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C166E-D6C1-4C8C-9A91-177283AE6F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83DB-432B-4848-B455-27576D021D7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36E-C9E4-4D5A-874C-2E6975F9CE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22B-C05D-41E6-AEF4-C46BE657DC3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BD6-A63F-4BEE-B667-B24599E8124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0E3-1DEF-4F56-9312-2664DAE466F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39F15-A8AA-4BED-8E60-39DADCE4A5B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2529D-F0CA-42E1-BBA3-94F8B7F57B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2ED4D-BA1F-4893-A692-B37D9BA5AE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69A70-7155-4C47-91F4-9108A75C842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037A3-8457-4DE9-9D5D-DF3D223D323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9D06D-DD8C-4A74-B460-83DEF2E9887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B4B0EF-E679-48D4-B7D1-A5158C7B9E3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CC4778-2698-43BF-9A5F-E36D1474229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F9645-A826-4584-BB38-30CFDBFA69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A13-3AD1-4722-BBC4-552FFE28F67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F1C19-8CEE-4207-BCB4-B1B72B346EC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44803-E8B5-42AB-B112-54477933112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C7923-5C00-45B8-8ECA-7EB9E056C38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FDF77-C34B-4C70-8749-937F0364CD2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C1487-EDEC-43F4-B805-194EAAD37B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3ED22-C358-487E-A72E-F189AB30CD7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58787-CF53-4458-91FC-A7E1DE00F7D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A562E-5396-4546-99B3-FA4444A6902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9AD7E-5411-4C86-874E-AF38C04B485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ACEEC-2D9D-44ED-80FD-11F6664AC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764-2094-470B-B99A-ABDF7D381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CFD-404A-4151-B265-B63D50C1B25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96B29-8A41-4EC1-A719-DAB2EEF666E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FB59C-EAD0-4889-A366-760C6D67BEC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1DC3F-5F5A-4051-9698-4C47CDB9E7A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21D9C-EA2F-40FC-984D-755B374546C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13E69-5AF0-4225-A235-8A5022D281B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5065-F743-443D-91DF-14B4186B747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21CED-95EF-418C-A46E-F4EC39F7AB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9483-BA30-4118-9F0A-F1DC530CE43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551A4-A1DC-4C42-91B7-D1DAF17CBCC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7AD3-25FF-42FA-9C25-846A5F7EB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8B5-D113-4406-B6AC-AF86AB0F0CC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C6D5D-E23D-4754-A1AD-5408CB4019A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E068F-D200-48A9-858F-2A6F25BC7E1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AEAB5-7E8E-46E4-9A31-61FA9C218B2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654A-F36B-4D8C-AE68-450BE781035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F89EC-01AC-4E97-B99D-FF04E537467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1594-2B31-495A-AB68-DEA5310610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BF626-883E-440F-8FE9-65BD21D9A39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0DA006-FC62-4B47-AF6A-13B166D81DE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68D366-D97F-4890-9BC5-EB01BC5959F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54F2DF-8E73-4554-BECB-C849D60387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A9D-9CEF-40B2-A17F-674A26EDBFC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1DF52D-6089-492E-80FA-DC3F80D1E8F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E832D-F056-4252-8C97-ECF6EB5306D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1B3E2-4F98-48C2-9B64-0E8420C1281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9F6CAA-47F7-4092-BAF5-391497F9219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06506-E88E-4EF3-8A9A-46F076DAE01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94369-A503-49DA-8573-7DC73D9ED47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622F8D-A335-4A22-8D26-6DC6C339FF2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F7626-D256-418D-9D93-E7BD04344E9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37D7C7-C03A-4FA5-9526-35548324B50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04C197-C8CA-43E1-81CA-DB1F5B248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0EF-726D-4357-B9B6-39FEE6A05FF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1EA0E-A3BD-4446-94D6-7F603FFAB41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242D51-641F-43F8-882A-28E7F611A74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061946-B885-4F09-8E5B-77C962F377C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1E5105-BE8B-4EC5-BE26-42B7811AAB8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C8A96-5FE6-4525-9455-C288C899BB1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2EE11C-BFAD-4413-BB61-6475818D2B5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907215-31EA-488A-8E9A-EC7475B1F6A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27A852-1BC0-4E9E-BF51-7EB45726053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F34196-1872-4E92-B0C0-03A14D82D1D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7F6C92-9100-41EF-8E2C-5D288D8DC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628-B063-40B6-83A1-441C3156CC4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E12201-B54E-4D2A-ABD0-27731A52804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12FD2-CCC2-46A6-940C-27F078A9FBB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B68F3-93BC-4A57-A97D-229F5D42DBD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2A86D-A149-4BE0-B8DE-7037BC149AC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5A3B-6CC0-4FCE-A95C-E168DEEAC24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2DB3-EF21-4A84-AA52-C3F5A1374DC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EF3BA-228F-496E-963D-803D09C5A8B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9FA0B-3FB3-4E07-A162-7B89D751313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32882-DB6E-49AD-93E7-9344304BF19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B4C91-05F6-46A3-8F7F-D3334983F6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929E8-9E72-4D22-9A32-74C7D69A721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16926-9568-4501-8FEC-54D90F8E7E5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C70C3-E535-4821-AD0D-E3A4DB07C31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469C41-CBF0-499F-91CA-A250B31AF50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AD8C72-A17E-48C2-AB8B-4C00D79685E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8573EF-8D8B-4B64-8733-C8409A7FE8C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540038-8944-4A21-84EF-5457B7DFBC0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2E6715-2ED3-459B-B6A4-024A00722E3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3F0F92-B0B0-4DD8-ABAF-C0AACE48862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A03C38-06BE-4F36-8841-34F73FAD5C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EC909F-DA4E-4B4B-98A5-0A01AEF056C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346967-CD4C-4CF3-8613-70E1483DA20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67FCA0-D55D-4605-A9DD-6CB61705411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305106-D337-4E33-BB34-26C266E0088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A79722-51B5-4103-BC74-38071CF99EC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FCCE27-3009-4A3F-8AEB-98697BB18AB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ACF40C-BAA6-4E4B-924C-D9519FFFBE2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4BED53-C399-4C5B-A1E4-E2769A5B37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B03848-85EA-46D0-8536-6257E30FEF1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F7FD40-9FB4-4050-9C3D-B9D581F74A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A2A9AB-E664-4957-91CE-71FBE131326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42DD28-7DF0-42B6-9C61-B906D7CC058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DB5247-6F99-479C-8E15-A4331A664E9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FEA5F0-712F-4388-81A9-F33BD4A2BFC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88BF82-37EA-4404-9E9B-B6A3D4755D0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03DE9E-B9C2-4E4F-A7CD-1D1A69EEED5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2EE06D-1421-4B63-9434-32415A9519D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59ACE-F482-4EF6-99C7-362EB363878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F2319-990E-4652-BA78-02B3B0EB0AF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719FF-7EE5-4A66-91A0-30E81ED7A3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39F20-DEFC-466E-A9F6-F0B65DDEA03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F27C9-DD14-4764-A60B-395EE1902A8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22F21-DBDA-4B11-962A-632F7AD3EF6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FF267-2311-44BB-8355-5EE304002DF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92128-DEEC-48A8-B2D1-E1354E54B04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9101F-DE27-4DFB-AF55-427BF0B72D1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83241-737E-4F52-9F5D-3A510CF22C7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8DE87-C8CC-45F1-BC92-113634A669E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294A5-46DE-471C-AF18-05A0F61F9A9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121D-80C5-41EC-8A58-F95BDAE95B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AE9A7-5735-4DED-BD35-AEBBA060B2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E17F4-DF2E-4FF3-935A-F733C05698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92F47-CF87-42E3-81D1-B5289B1D9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88BC-66CA-4328-83B9-86068476D9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DA8C2-CA47-4F26-B8A9-F095E3A088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594E-ADD2-4523-8A22-991F6EBD37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33E63-96ED-438D-B55D-172982A415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CE2E-0645-493E-A152-2E51572A76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6EB6F-EB63-4098-8BDA-E55467E6EA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3919A-FBCE-4F58-A526-7D472C40D4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34050-94C6-4EAB-BD13-76F8CEF523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A5ADF-F66D-4344-A14E-D6AB7514C4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E913-A463-4D50-9E07-4E06A22C95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AB486-0ED7-41C1-B00B-A6C0D6C44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255F-D26B-47D8-8CD8-6B9D4FFD1A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F8EBC-5F4C-4817-A5FC-AF76E2B865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2429F-BDE8-44DF-A36A-A55BF039CF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99544-C5CC-4EBE-BBF8-834851E595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0444C-BCED-4B8D-8DE2-182765B145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DB0FA-0DA8-4A85-8133-CDBCA6087F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38A4B-4A8B-42D2-B54E-2CFF52433C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0BCA0-D9D7-4646-A9F2-25818233A0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B47F2-124C-4ED5-9772-026804CCF1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F9D8E-7F02-4932-B490-F8E276D8EF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7FB35-A4A9-4480-A13B-4893AE41C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0C63-A6FE-4C6B-AD1C-2B80277B9B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9B216-BBB8-4128-9F82-C6A2279C35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04CC-1DF7-4EF9-B76C-686E4F5479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C4FB-4EDF-4027-8015-F82A181846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1F07-2B1A-4FA1-9200-A238561E08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561F-053C-4129-97AD-253E28EB0A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9356-5121-44D0-B1AE-AA8D1A9F8C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93D3-7AA1-43DA-9258-9CDFE172EE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EA43-7A95-42B2-9BBC-BF726467C4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21CC-01DE-4746-80B1-C675B33D5E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239D-6EB7-4131-BB9B-83B7AEF3C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50A0-07DE-4E3D-96C6-ADC8E0EA99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72FA-6CAE-41C2-8997-A0E7BD4419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492F-7A93-4DAA-8AA7-F937DF0F0B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B6B5-55F9-4CEF-9529-3F7C145600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82703-746F-4C9F-A2D8-4BA7F580C3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3079C-AF54-45A9-9CBD-EA3C6DA671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3F426-4126-4EC9-B910-F0BA27DE2C9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57264-D4BD-490C-9013-A08D3E500F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6BBBB-DD6E-45C3-913F-33AD5D1CD61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3B578-400F-4BB5-8EE2-A21DD7EEDE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D6878-2B57-4AD0-BE03-9D547E379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24FE-B730-491C-B4A9-BBC1A07B6A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AF681-926B-45DD-B1CC-8D8E2F4C64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37638-3694-48DD-8810-004E053493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8ED3E-7138-46C1-8514-BA1E26BADF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80ECE-B4F3-47DD-87A9-38EC51A3DE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79605-EC72-4FBE-847B-801386AA35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0EB7E-4578-4EF5-ADBA-71DE0DE69D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6789A-C079-4D4E-9934-AAD577FEE3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3EE7E-2AA4-4743-8230-80A14FC146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3778D-7840-4A64-BF10-41C485B7E2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34709-606E-4CCF-8FC3-49DB9D677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28A6-EC88-493A-80ED-7531A5FD96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016D9-90AD-406B-A188-1A2574D14D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1590F-0CA1-4E80-8DC5-786C9FD0E9E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C005A-9072-4891-82BE-D03652D133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039BA-B41A-40FC-8D01-CE9ACB4B81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DF372-F91D-4962-AC8E-A08C0C4CAE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3FEDD-8FAC-4225-828D-CE19C9754E7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AEC4B-77CE-4FEA-BF0A-2336692BD18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13F4-1032-4F00-947D-506CF12DC6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27C2-1289-49E8-8368-A2186B82A08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97FB-DE67-4463-B0C9-063E4FB2D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3" name="Picture 10" descr="icon_logo"/>
          <p:cNvPicPr/>
          <p:nvPr/>
        </p:nvPicPr>
        <p:blipFill>
          <a:blip r:embed="rId4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682-429B-4558-87B3-C423B80974A1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5FB-DE52-4B33-A08D-A1A6D5E2369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472-D6B9-43A3-82F2-FDD98DFE030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512" name="Picture 12" descr="_0013_14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11AE-9997-4049-8BAC-8F6595B94A23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673" name="Picture 9" descr="_0010_11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00EB-D82D-4551-916E-0645001282B2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1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720" name="Picture 9" descr="_0011_12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2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8859-258B-47CC-8757-764131BBEBA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2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6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767" name="Freeform 9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8" name="Picture 11" descr="_0014_15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Num" idx="2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39C-EBFC-4DD6-B147-170C67E68E9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814" name="Picture 9" descr="_0009_10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0C6-2876-4170-8D6F-7E734F31350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4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6111-1F1B-42CA-AF89-40FC084BB1A3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5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861" name="Picture 9" descr="_0012_13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3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6F9D-FC91-448A-81B9-05F2486E5257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32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0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3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F284-F19D-45A3-8CE4-B827AF6E719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3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13CF-736B-49D4-9966-243D348C0D6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3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9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31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994" name="Picture 9" descr="_0015_16.jpg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Freeform 21"/>
            <p:cNvSpPr/>
            <p:nvPr/>
          </p:nvSpPr>
          <p:spPr>
            <a:xfrm>
              <a:off x="137160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3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FD1-C79B-4B28-BEB9-85A6137E0AA1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3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03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041" name="Picture 9" descr="_0013_14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3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AABE-F3BB-404D-A17B-64B0F46B5FFF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4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132" name="Picture 12" descr="_0010_11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09E8-3592-4575-949E-63A02ED8185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81" name="Picture 12" descr="_0011_12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1C2E-99B8-4E41-A174-C59CE68AA7A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230" name="Freeform 12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13" descr="_0014_15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EF9D-ACB2-4409-AC0D-48006866D13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279" name="Picture 12" descr="_0009_10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15F-9B04-40F3-9F42-FFF42EEB005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328" name="Picture 12" descr="_0012_13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5A3-A407-4FC1-A68D-F31177F31B1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A8C-F4F2-473A-8EA0-F9F5A47739E1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8" name="Group 38"/>
          <p:cNvGrpSpPr/>
          <p:nvPr/>
        </p:nvGrpSpPr>
        <p:grpSpPr>
          <a:xfrm>
            <a:off x="0" y="47520"/>
            <a:ext cx="9153000" cy="6886800"/>
            <a:chOff x="0" y="47520"/>
            <a:chExt cx="9153000" cy="6886800"/>
          </a:xfrm>
        </p:grpSpPr>
        <p:sp>
          <p:nvSpPr>
            <p:cNvPr id="1169" name="Freeform 39"/>
            <p:cNvSpPr/>
            <p:nvPr/>
          </p:nvSpPr>
          <p:spPr>
            <a:xfrm>
              <a:off x="958680" y="431640"/>
              <a:ext cx="8191440" cy="6502680"/>
            </a:xfrm>
            <a:custGeom>
              <a:avLst/>
              <a:gdLst>
                <a:gd name="textAreaLeft" fmla="*/ 0 w 8191440"/>
                <a:gd name="textAreaRight" fmla="*/ 8191800 w 8191440"/>
                <a:gd name="textAreaTop" fmla="*/ 0 h 6502680"/>
                <a:gd name="textAreaBottom" fmla="*/ 6503040 h 650268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"/>
            <p:cNvSpPr/>
            <p:nvPr/>
          </p:nvSpPr>
          <p:spPr>
            <a:xfrm>
              <a:off x="0" y="405252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"/>
            <p:cNvSpPr/>
            <p:nvPr/>
          </p:nvSpPr>
          <p:spPr>
            <a:xfrm rot="10800000">
              <a:off x="8348400" y="597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2"/>
            <p:cNvSpPr/>
            <p:nvPr/>
          </p:nvSpPr>
          <p:spPr>
            <a:xfrm>
              <a:off x="279360" y="47520"/>
              <a:ext cx="8852040" cy="5448600"/>
            </a:xfrm>
            <a:custGeom>
              <a:avLst/>
              <a:gdLst>
                <a:gd name="textAreaLeft" fmla="*/ 0 w 8852040"/>
                <a:gd name="textAreaRight" fmla="*/ 8852400 w 8852040"/>
                <a:gd name="textAreaTop" fmla="*/ 0 h 5448600"/>
                <a:gd name="textAreaBottom" fmla="*/ 5448960 h 544860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176" name="TextBox 14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C00-CAF7-4F5B-9378-EA66F1BE939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Grade-Level Stand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K-8 grade-by-grade standards organized by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9-12 high school standards organized by conceptual catego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Standards for Mathemat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escribe mathematical “habits of mind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mathematical proficiency: reasoning, problem solving, modeling, decision making, and engagemen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onnect with content standards in each 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Common Core State Standards for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BD8-D75F-4528-9C2E-86CD6218683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K- 8 standa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K-5 standards provide students with a solid foundation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whole numbers, addition, subtraction, multiplication, division, fractions and decim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6-8 standards describe robust learning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geomet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algebra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and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obability and statistic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Modeled after the focus of standards from high-performing nations, the standards for grades 7 and 8 includ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ignificant algebra and geometry con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udents who have completed 7</a:t>
            </a:r>
            <a:r>
              <a:rPr b="0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and mastered the content and skills will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epared for algebra, in 8</a:t>
            </a:r>
            <a:r>
              <a:rPr b="0" i="1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or after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75E-36B9-4DFC-9ADB-D16AB54D77A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ontent Placeholder 9"/>
          <p:cNvSpPr/>
          <p:nvPr/>
        </p:nvSpPr>
        <p:spPr>
          <a:xfrm>
            <a:off x="228600" y="1981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grade includes an overview of cross-cutting themes and critical areas o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4" descr="Grade 1 Math.JPG"/>
          <p:cNvPicPr/>
          <p:nvPr/>
        </p:nvPicPr>
        <p:blipFill>
          <a:blip r:embed="rId1"/>
          <a:stretch/>
        </p:blipFill>
        <p:spPr>
          <a:xfrm>
            <a:off x="3200400" y="1371600"/>
            <a:ext cx="563868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1ABD-846E-46D7-BBC3-090C8330F8E3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omain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overarching ideas that connect topics across the gra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illustrate progression of increasing complexity from grade to gr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0" descr="reading standards.JPG"/>
          <p:cNvPicPr/>
          <p:nvPr/>
        </p:nvPicPr>
        <p:blipFill>
          <a:blip r:embed="rId4"/>
          <a:stretch/>
        </p:blipFill>
        <p:spPr>
          <a:xfrm>
            <a:off x="1252440" y="3105000"/>
            <a:ext cx="6639120" cy="24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40F-7F5D-4D11-BD82-972DEF803A8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high school mathematics standard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all on students to practic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pplying mathematical ways of thinking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real world issues and challeng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develop a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depth of understanding and ability to apply mathematics to nove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s college students and employees regularly are called to do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mathematical model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the use of mathematics and statistics to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nalyze empirica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understand them better, and improve decision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dentify the mathematics that all students should study in order to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college and career read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.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5F52-089C-4C72-94BF-7D1F5AA4600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57200" y="13712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ntent categorie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overarching ideas that describe strands of content in high schoo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Domains/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groups of standards that describe coherent aspects of the content catego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 school standards are organized around five conceptual categories: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Number and Quantity, Algebra, Functions, Geometry,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d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 Statistics and Probabili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Modeling standards are distributed under the five major headings and are indicated with a (</a:t>
            </a:r>
            <a:r>
              <a:rPr b="0" lang="en-US" sz="1700" spc="-1" strike="noStrike">
                <a:solidFill>
                  <a:srgbClr val="6b6b6b"/>
                </a:solidFill>
                <a:latin typeface="Wingdings"/>
                <a:ea typeface="Wingdings"/>
              </a:rPr>
              <a:t>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) symbol.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indicated as (+) are beyond the college and career readiness level but are necessary for advanced mathematics courses, such as calculus, discrete mathematics, and advanced statistics. Standards with a (+) may still be found in courses expected for all student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418-20B1-485E-A251-5421ED79445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High Scho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Content Placeholder 9"/>
          <p:cNvSpPr/>
          <p:nvPr/>
        </p:nvSpPr>
        <p:spPr>
          <a:xfrm>
            <a:off x="457200" y="19051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content category includes an overview of the content found with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6" descr="Number.JPG"/>
          <p:cNvPicPr/>
          <p:nvPr/>
        </p:nvPicPr>
        <p:blipFill>
          <a:blip r:embed="rId1"/>
          <a:stretch/>
        </p:blipFill>
        <p:spPr>
          <a:xfrm>
            <a:off x="3657600" y="1360440"/>
            <a:ext cx="5334120" cy="488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A92-01FD-42B5-96C9-D35E7D71CA7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Course Pathways for Math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Model Mathematics Pathway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veloped by a panel of experts convened by Achieve, including many of the standards writers and review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e the content of the standards into coherent and rigorous cours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llustrate possible approaches—models, not mandates or prescriptions for organization, curriculum or pedagog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completion of the Core in three years, allowing for specialization in the fourth year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epare students for a menu of courses in higher-level mathematic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 the process of finalizing – to be released by the end of Jul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Down Arrow 14"/>
          <p:cNvSpPr/>
          <p:nvPr/>
        </p:nvSpPr>
        <p:spPr>
          <a:xfrm flipV="1">
            <a:off x="2133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own Arrow 48"/>
          <p:cNvSpPr/>
          <p:nvPr/>
        </p:nvSpPr>
        <p:spPr>
          <a:xfrm flipV="1">
            <a:off x="6705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A45-947E-4D0A-A695-62F8CB79E08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odel Course Pathways for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5"/>
          <p:cNvSpPr/>
          <p:nvPr/>
        </p:nvSpPr>
        <p:spPr>
          <a:xfrm>
            <a:off x="533520" y="5562720"/>
            <a:ext cx="3962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raditional in U.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Freeform 10"/>
          <p:cNvGrpSpPr/>
          <p:nvPr/>
        </p:nvGrpSpPr>
        <p:grpSpPr>
          <a:xfrm>
            <a:off x="1547640" y="3786120"/>
            <a:ext cx="1987560" cy="889200"/>
            <a:chOff x="1547640" y="3786120"/>
            <a:chExt cx="1987560" cy="889200"/>
          </a:xfrm>
        </p:grpSpPr>
        <p:pic>
          <p:nvPicPr>
            <p:cNvPr id="1247" name="Freeform 10" descr=""/>
            <p:cNvPicPr/>
            <p:nvPr/>
          </p:nvPicPr>
          <p:blipFill>
            <a:blip r:embed="rId1"/>
            <a:stretch/>
          </p:blipFill>
          <p:spPr>
            <a:xfrm>
              <a:off x="1547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1600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Geomet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Freeform 11"/>
          <p:cNvGrpSpPr/>
          <p:nvPr/>
        </p:nvGrpSpPr>
        <p:grpSpPr>
          <a:xfrm>
            <a:off x="1547640" y="4780080"/>
            <a:ext cx="1987560" cy="888840"/>
            <a:chOff x="1547640" y="4780080"/>
            <a:chExt cx="1987560" cy="888840"/>
          </a:xfrm>
        </p:grpSpPr>
        <p:pic>
          <p:nvPicPr>
            <p:cNvPr id="1250" name="Freeform 11" descr=""/>
            <p:cNvPicPr/>
            <p:nvPr/>
          </p:nvPicPr>
          <p:blipFill>
            <a:blip r:embed="rId2"/>
            <a:stretch/>
          </p:blipFill>
          <p:spPr>
            <a:xfrm>
              <a:off x="1547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1600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Rounded Rectangle 41"/>
          <p:cNvGrpSpPr/>
          <p:nvPr/>
        </p:nvGrpSpPr>
        <p:grpSpPr>
          <a:xfrm>
            <a:off x="407880" y="1238400"/>
            <a:ext cx="8454960" cy="1212840"/>
            <a:chOff x="407880" y="1238400"/>
            <a:chExt cx="8454960" cy="1212840"/>
          </a:xfrm>
        </p:grpSpPr>
        <p:pic>
          <p:nvPicPr>
            <p:cNvPr id="1253" name="Rounded Rectangle 41" descr=""/>
            <p:cNvPicPr/>
            <p:nvPr/>
          </p:nvPicPr>
          <p:blipFill>
            <a:blip r:embed="rId3"/>
            <a:stretch/>
          </p:blipFill>
          <p:spPr>
            <a:xfrm>
              <a:off x="407880" y="1238400"/>
              <a:ext cx="8454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509760" y="1338120"/>
              <a:ext cx="82008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urses in higher level mathematics: Precalculus, Calculus (upon completion of Precalculus), Advanced Statistics, Discrete Mathematics, Advanced Quantitative Reasoning, or other courses to be designed at a later date, such as additional career technical cours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Box 49"/>
          <p:cNvSpPr/>
          <p:nvPr/>
        </p:nvSpPr>
        <p:spPr>
          <a:xfrm>
            <a:off x="5105520" y="5562720"/>
            <a:ext cx="396216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ternational Integrated approach (typical outside of U.S</a:t>
            </a:r>
            <a:r>
              <a:rPr b="0" lang="en-US" sz="1500" spc="-1" strike="noStrike">
                <a:solidFill>
                  <a:srgbClr val="6b6b6b"/>
                </a:solidFill>
                <a:latin typeface="Arial"/>
              </a:rPr>
              <a:t>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b6b6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Freeform 52"/>
          <p:cNvGrpSpPr/>
          <p:nvPr/>
        </p:nvGrpSpPr>
        <p:grpSpPr>
          <a:xfrm>
            <a:off x="6119640" y="3786120"/>
            <a:ext cx="1987560" cy="889200"/>
            <a:chOff x="6119640" y="3786120"/>
            <a:chExt cx="1987560" cy="889200"/>
          </a:xfrm>
        </p:grpSpPr>
        <p:pic>
          <p:nvPicPr>
            <p:cNvPr id="1257" name="Freeform 52" descr=""/>
            <p:cNvPicPr/>
            <p:nvPr/>
          </p:nvPicPr>
          <p:blipFill>
            <a:blip r:embed="rId4"/>
            <a:stretch/>
          </p:blipFill>
          <p:spPr>
            <a:xfrm>
              <a:off x="6119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6172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Freeform 53"/>
          <p:cNvGrpSpPr/>
          <p:nvPr/>
        </p:nvGrpSpPr>
        <p:grpSpPr>
          <a:xfrm>
            <a:off x="6119640" y="4780080"/>
            <a:ext cx="1987560" cy="888840"/>
            <a:chOff x="6119640" y="4780080"/>
            <a:chExt cx="1987560" cy="888840"/>
          </a:xfrm>
        </p:grpSpPr>
        <p:pic>
          <p:nvPicPr>
            <p:cNvPr id="1260" name="Freeform 53" descr=""/>
            <p:cNvPicPr/>
            <p:nvPr/>
          </p:nvPicPr>
          <p:blipFill>
            <a:blip r:embed="rId5"/>
            <a:stretch/>
          </p:blipFill>
          <p:spPr>
            <a:xfrm>
              <a:off x="6119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6172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Freeform 22"/>
          <p:cNvGrpSpPr/>
          <p:nvPr/>
        </p:nvGrpSpPr>
        <p:grpSpPr>
          <a:xfrm>
            <a:off x="1547640" y="2840040"/>
            <a:ext cx="1987560" cy="890640"/>
            <a:chOff x="1547640" y="2840040"/>
            <a:chExt cx="1987560" cy="890640"/>
          </a:xfrm>
        </p:grpSpPr>
        <p:pic>
          <p:nvPicPr>
            <p:cNvPr id="1263" name="Freeform 22" descr=""/>
            <p:cNvPicPr/>
            <p:nvPr/>
          </p:nvPicPr>
          <p:blipFill>
            <a:blip r:embed="rId6"/>
            <a:stretch/>
          </p:blipFill>
          <p:spPr>
            <a:xfrm>
              <a:off x="1547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1600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Freeform 23"/>
          <p:cNvGrpSpPr/>
          <p:nvPr/>
        </p:nvGrpSpPr>
        <p:grpSpPr>
          <a:xfrm>
            <a:off x="6119640" y="2840040"/>
            <a:ext cx="1987560" cy="890640"/>
            <a:chOff x="6119640" y="2840040"/>
            <a:chExt cx="1987560" cy="890640"/>
          </a:xfrm>
        </p:grpSpPr>
        <p:pic>
          <p:nvPicPr>
            <p:cNvPr id="1266" name="Freeform 23" descr=""/>
            <p:cNvPicPr/>
            <p:nvPr/>
          </p:nvPicPr>
          <p:blipFill>
            <a:blip r:embed="rId7"/>
            <a:stretch/>
          </p:blipFill>
          <p:spPr>
            <a:xfrm>
              <a:off x="6119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6172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69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70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3581280" y="3352680"/>
            <a:ext cx="5543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re State Standards for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glish Language Arts and Literacy in History/ Social Studies, Science, and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Core State Standard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7EFD-B0C7-43AD-92EC-B644AF03C43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ontent Placeholder 1"/>
          <p:cNvSpPr/>
          <p:nvPr/>
        </p:nvSpPr>
        <p:spPr>
          <a:xfrm>
            <a:off x="8380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Beginning in the spring of 2009, Governors and state commissioners of education from 48 states, 2 territories and the District of Columbia committed to developing a common core of state K-12 English-language arts (ELA) and mathematics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1d91b1"/>
                </a:solidFill>
                <a:latin typeface="Arial"/>
              </a:rPr>
              <a:t>Common Core State Standards Initiative (CCSSI)</a:t>
            </a: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 is a state-led effort coordinated by the National Governors Association (NGA) and the Council of Chief State School Officers (CCSS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63685"/>
                </a:solidFill>
                <a:uFillTx/>
                <a:latin typeface="Arial"/>
                <a:ea typeface="Geneva"/>
              </a:rPr>
              <a:t>www.corestandards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E88-3E54-40DF-944C-A15C0CFCA36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f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Language Arts and Literacy in 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ollege and Career Readiness (CCR) Standards 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verarching standards for each strand that are further defined by grade-specific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Grade-Level Standards in English Language Arts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8, grade-by-grad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9-10 and 11-12 grade bands for high school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ur strands: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Read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Writ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Speaking and Listen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nd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Languag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for Literacy in History/Social Studies, Science, and Technical Subjects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are embedded at grades K-5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ntent-specific literacy standards are provided for grades 6-8, 9-10, and 11-12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3" marL="1425600" indent="-287280">
              <a:lnSpc>
                <a:spcPct val="115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6031-570D-4A67-849C-53D73698A17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Rea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6"/>
          <p:cNvSpPr/>
          <p:nvPr/>
        </p:nvSpPr>
        <p:spPr>
          <a:xfrm>
            <a:off x="457200" y="1600200"/>
            <a:ext cx="8229600" cy="3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ogressive development of reading comprehension; students gain more from what they read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the importance of grade-level texts that are of appropriate difficulty and are increasingly sophisticat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Reading Foundational Skills (K-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ture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Informational Text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History/Social Studie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Science and Technical Subject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3AFF-040A-4E07-8E2B-A44201BBE27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Tex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"/>
          <p:cNvSpPr/>
          <p:nvPr/>
        </p:nvSpPr>
        <p:spPr>
          <a:xfrm>
            <a:off x="457200" y="1295280"/>
            <a:ext cx="8229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include over exemplar texts (stories and literature, poetry, and informational texts) that illustrate appropriate level of complexity by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Text complexity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29"/>
          <p:cNvGrpSpPr/>
          <p:nvPr/>
        </p:nvGrpSpPr>
        <p:grpSpPr>
          <a:xfrm>
            <a:off x="457200" y="2971800"/>
            <a:ext cx="7428600" cy="2859120"/>
            <a:chOff x="457200" y="2971800"/>
            <a:chExt cx="7428600" cy="2859120"/>
          </a:xfrm>
        </p:grpSpPr>
        <p:grpSp>
          <p:nvGrpSpPr>
            <p:cNvPr id="1286" name="Group 28"/>
            <p:cNvGrpSpPr/>
            <p:nvPr/>
          </p:nvGrpSpPr>
          <p:grpSpPr>
            <a:xfrm>
              <a:off x="5801760" y="3097800"/>
              <a:ext cx="2084040" cy="2733120"/>
              <a:chOff x="5801760" y="3097800"/>
              <a:chExt cx="2084040" cy="2733120"/>
            </a:xfrm>
          </p:grpSpPr>
          <p:sp>
            <p:nvSpPr>
              <p:cNvPr id="1287" name="Isosceles Triangle 22"/>
              <p:cNvSpPr/>
              <p:nvPr/>
            </p:nvSpPr>
            <p:spPr>
              <a:xfrm rot="7297200">
                <a:off x="5472360" y="4084560"/>
                <a:ext cx="2742480" cy="7588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TextBox 18"/>
              <p:cNvSpPr/>
              <p:nvPr/>
            </p:nvSpPr>
            <p:spPr>
              <a:xfrm rot="17950800">
                <a:off x="5981040" y="419652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alit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TextBox 25"/>
            <p:cNvSpPr/>
            <p:nvPr/>
          </p:nvSpPr>
          <p:spPr>
            <a:xfrm>
              <a:off x="457200" y="2971800"/>
              <a:ext cx="53442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litative measures – levels of meaning, structure, language conventionality and clarity, and knowledge dema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30"/>
          <p:cNvGrpSpPr/>
          <p:nvPr/>
        </p:nvGrpSpPr>
        <p:grpSpPr>
          <a:xfrm>
            <a:off x="457200" y="3091680"/>
            <a:ext cx="8228880" cy="2745000"/>
            <a:chOff x="457200" y="3091680"/>
            <a:chExt cx="8228880" cy="2745000"/>
          </a:xfrm>
        </p:grpSpPr>
        <p:sp>
          <p:nvSpPr>
            <p:cNvPr id="1291" name="Isosceles Triangle 23"/>
            <p:cNvSpPr/>
            <p:nvPr/>
          </p:nvSpPr>
          <p:spPr>
            <a:xfrm flipH="1" rot="14352600">
              <a:off x="6286320" y="4084560"/>
              <a:ext cx="2743200" cy="758880"/>
            </a:xfrm>
            <a:prstGeom prst="triangle">
              <a:avLst>
                <a:gd name="adj" fmla="val 50000"/>
              </a:avLst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Box 19"/>
            <p:cNvSpPr/>
            <p:nvPr/>
          </p:nvSpPr>
          <p:spPr>
            <a:xfrm rot="3558000">
              <a:off x="7062120" y="41907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26"/>
            <p:cNvSpPr/>
            <p:nvPr/>
          </p:nvSpPr>
          <p:spPr>
            <a:xfrm>
              <a:off x="457200" y="3893760"/>
              <a:ext cx="5344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ntitative measures – readability and other scores of text complex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31"/>
          <p:cNvGrpSpPr/>
          <p:nvPr/>
        </p:nvGrpSpPr>
        <p:grpSpPr>
          <a:xfrm>
            <a:off x="457200" y="4559400"/>
            <a:ext cx="8229600" cy="970560"/>
            <a:chOff x="457200" y="4559400"/>
            <a:chExt cx="8229600" cy="970560"/>
          </a:xfrm>
        </p:grpSpPr>
        <p:sp>
          <p:nvSpPr>
            <p:cNvPr id="1295" name="Isosceles Triangle 21"/>
            <p:cNvSpPr/>
            <p:nvPr/>
          </p:nvSpPr>
          <p:spPr>
            <a:xfrm>
              <a:off x="5829480" y="4732920"/>
              <a:ext cx="2857320" cy="758880"/>
            </a:xfrm>
            <a:prstGeom prst="triangle">
              <a:avLst>
                <a:gd name="adj" fmla="val 50000"/>
              </a:avLst>
            </a:prstGeom>
            <a:solidFill>
              <a:srgbClr val="2e7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20"/>
            <p:cNvSpPr/>
            <p:nvPr/>
          </p:nvSpPr>
          <p:spPr>
            <a:xfrm>
              <a:off x="6210360" y="516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er and T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Box 27"/>
            <p:cNvSpPr/>
            <p:nvPr/>
          </p:nvSpPr>
          <p:spPr>
            <a:xfrm>
              <a:off x="457200" y="4559400"/>
              <a:ext cx="53445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Reader and Task – background knowledge of reader, motivation, interests, and complexity generated by tasks assign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8AE-0B4B-4CFC-B829-E9476E93052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Grade-Level Progression in 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CR Reading Standard 3: Analyze how and why individuals, events, and ideas develop and interact over the course of a text.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457200" y="2438280"/>
          <a:ext cx="8229600" cy="3632400"/>
        </p:xfrm>
        <a:graphic>
          <a:graphicData uri="http://schemas.openxmlformats.org/drawingml/2006/table">
            <a:tbl>
              <a:tblPr/>
              <a:tblGrid>
                <a:gridCol w="3809880"/>
                <a:gridCol w="381240"/>
                <a:gridCol w="40384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  <a:ea typeface="Geneva"/>
                        </a:rPr>
                        <a:t>Reading Standards for Informational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characters in a story (e.g., their traits, motivations, or feelings) and explain how their actions contribute to the sequence of e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Describe the relationships between a series of historical events, scientific ideas of concepts, or steps in technical procedures in a text, using language that pertains to time, sequence, and cause/effe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how particular elements of a story or drama interact (e.g., how setting shapes the characters or pl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 7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the interactions between individuals, events, and ideas in a text (e.g., how ideas influence individuals or events, or how individuals influence ideas or event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Evaluate various explanations for characters’ actions or for events and determine which explanation best accords with textual evidence, acknowledging where the text leaves matters uncer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eneva"/>
                        </a:rPr>
                        <a:t>Analyze a complex set of ideas or sequence of events and explain how specific individuals, ideas, or events interact and develop over the course of the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</a:tbl>
          </a:graphicData>
        </a:graphic>
      </p:graphicFrame>
      <p:sp>
        <p:nvSpPr>
          <p:cNvPr id="1302" name="Down Arrow 5"/>
          <p:cNvSpPr/>
          <p:nvPr/>
        </p:nvSpPr>
        <p:spPr>
          <a:xfrm>
            <a:off x="4343400" y="2438280"/>
            <a:ext cx="228600" cy="3353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E0AB-7F8D-443F-BB30-20F2481D54D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-Level Prog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t highlights progression of standards across grade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1306" name="Picture 6" descr="Reading Kil.JPG"/>
          <p:cNvPicPr/>
          <p:nvPr/>
        </p:nvPicPr>
        <p:blipFill>
          <a:blip r:embed="rId1"/>
          <a:stretch/>
        </p:blipFill>
        <p:spPr>
          <a:xfrm>
            <a:off x="457200" y="20509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274-088C-446A-B50F-1AAD664DCF9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ri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 students to compose arguments and opinions, informative/explanatory pieces, and narrative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the use of reason and evidence to substantiate an argument or claim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ability to conduct research – short projects and sustained inqui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incorporate technology as they create, refine, and collaborate on writ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student writing samples that illustrate the criteria required to meet the standards (See standards’ appendices for writing samples)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FF08-63AB-454E-A081-F8423E29437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peaking and Liste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44756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peaking and Listening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speaking and listening in a range of settings, both formal and informal –  academic, small-group, whole-class discussion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effective communication practi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interpretation and analysis of message as presented through oral, visual, or multimodal forma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conventions for writing and speak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light the importance of vocabulary acquisition through a mix of conversation, direct instruction, and read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be addressed in context of reading, writing, speaking and listen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1b2"/>
                </a:solidFill>
                <a:latin typeface="Arial"/>
              </a:rPr>
              <a:t>Media and Technology are integrated throughout the standard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C890-8968-460D-ACB0-13B6E5A2EBF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Standards 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457200" y="160020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nowledg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alyze, evaluate, and differentiate primary and secondary sour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ynthesize quantitative and technical information, including facts presented in maps, timelines, flowcharts, or diagram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Write arguments on discipline-specific content and informative/explanatory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ata, evidence, and reason to support arguments and claim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31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2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Common Core State Standar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CAA3-8F6A-4AB8-B992-C62F1F20947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457200" y="1600200"/>
            <a:ext cx="822960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Prepara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college- and career-ready. They will help prepare students with the knowledge and skills they need to succeed in education and training after high schoo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mpeti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internationally benchmarked. Common standards will help ensure our students are globally competitiv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Equity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ations are consistent for all – and not dependent on a student’s zip cod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larity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are focused, coherent, and clear. Clearer standards help students (and parents and teachers) understand what is expected of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llaboration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create a foundation to work collaboratively across states and districts, pooling resources and expertise, to create curricular tools, professional development, common assessments and other materi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and Tim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085-4E8B-411F-9C53-1881B65CEFA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457200" y="1600200"/>
            <a:ext cx="82296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K-12 Common Standards:</a:t>
            </a:r>
            <a:r>
              <a:rPr b="0" lang="en-US" sz="1800" spc="-1" strike="noStrike">
                <a:solidFill>
                  <a:srgbClr val="1d91b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re writing teams in English Language Arts and Mathematics (See </a:t>
            </a:r>
            <a:r>
              <a:rPr b="0" lang="en-US" sz="1700" spc="-1" strike="noStrike" u="sng">
                <a:solidFill>
                  <a:srgbClr val="0091b2"/>
                </a:solidFill>
                <a:uFillTx/>
                <a:latin typeface="Arial"/>
              </a:rPr>
              <a:t>www.corestandards.or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for list of team member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ternal and state feedback teams provided on-going feedback to writing teams throughout the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raft K-12 standards were released for public comment on March 10, 2010; 9,600 comments receiv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Validation Committee of leading experts reviews stand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d91b1"/>
                </a:solidFill>
                <a:latin typeface="Arial"/>
              </a:rPr>
              <a:t>Final standards were released </a:t>
            </a:r>
            <a:r>
              <a:rPr b="1" lang="en-US" sz="1700" spc="-1" strike="noStrike" u="sng">
                <a:solidFill>
                  <a:srgbClr val="1d91b1"/>
                </a:solidFill>
                <a:uFillTx/>
                <a:latin typeface="Arial"/>
              </a:rPr>
              <a:t>June 2, 20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back and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C796-8260-4F50-9585-6E80B634890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xternal and State Feedback teams included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12 teacher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ostsecondary facul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te curriculum and assessments exper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National organizations (including, but not limited, to):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066680" y="3962520"/>
          <a:ext cx="7772400" cy="1996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Council on Education (AC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Federation of Teachers (AF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ampaign for High School Equity (CHS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onference Board of the Mathematical Sciences (CBM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Modern Language Association (ML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English (NCT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Mathematics (NCT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Education Association (NE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Desig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89C1-165D-4209-B04A-70009CC7010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*Ready for first-year credit-bearing, postsecondary coursework in mathematics and English without the need for reme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Building on the strength of current state standards, the CCSS are designed to be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584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ed, coherent, clear and rigorou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ternationally benchmark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chored in college and career readiness*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vidence and research bas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A69-DE5C-4DE8-9987-9F3ED43AFD1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was used to guide critical decisions in the following areas: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sion of particular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iming of when content should be introduced and the progression of that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nsuring focus and coherenc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ing and formatting the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termining emphasis on particular topics in standard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include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from high-performing countries, leading states, and nationally-regarded framework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 on adolescent literacy, text complexity, mathematics instruction, quantitative literacy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Lists of works consulted and research base included in standards’ appendic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0F7C-5CA5-4381-A43A-579EFAB8A2E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144756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 example: Standards from individual high-performing countries and provinces were used to inform content, structure, and language. Writing teams looked for examples of rigor, coherence, and progression.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pSp>
        <p:nvGrpSpPr>
          <p:cNvPr id="1203" name="Group 6"/>
          <p:cNvGrpSpPr/>
          <p:nvPr/>
        </p:nvGrpSpPr>
        <p:grpSpPr>
          <a:xfrm>
            <a:off x="981000" y="2590920"/>
            <a:ext cx="7317000" cy="3555000"/>
            <a:chOff x="981000" y="2590920"/>
            <a:chExt cx="7317000" cy="3555000"/>
          </a:xfrm>
        </p:grpSpPr>
        <p:sp>
          <p:nvSpPr>
            <p:cNvPr id="1204" name="TextBox 7"/>
            <p:cNvSpPr/>
            <p:nvPr/>
          </p:nvSpPr>
          <p:spPr>
            <a:xfrm>
              <a:off x="981000" y="2590920"/>
              <a:ext cx="34387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Mathema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elgium (Flemish)</a:t>
              </a:r>
              <a:r>
                <a:rPr b="1" i="1" lang="en-US" sz="1700" spc="-1" strike="noStrike">
                  <a:solidFill>
                    <a:srgbClr val="6b6b6b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 (Alber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ese Taipe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nd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Jap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Ko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Box 8"/>
            <p:cNvSpPr/>
            <p:nvPr/>
          </p:nvSpPr>
          <p:spPr>
            <a:xfrm>
              <a:off x="4861080" y="2590920"/>
              <a:ext cx="34369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English language 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New South Wa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Victor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lber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ritish Columb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Ontar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0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Common Core State Standards for </a:t>
            </a: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8:41Z</dcterms:created>
  <dc:creator>Laura Slover</dc:creator>
  <dc:description/>
  <dc:language>en-US</dc:language>
  <cp:lastModifiedBy>IS</cp:lastModifiedBy>
  <cp:lastPrinted>2010-02-24T23:39:36Z</cp:lastPrinted>
  <dcterms:modified xsi:type="dcterms:W3CDTF">2011-07-07T17:15:27Z</dcterms:modified>
  <cp:revision>598</cp:revision>
  <dc:subject/>
  <dc:title>Slide 1</dc:title>
</cp:coreProperties>
</file>